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21.jpeg" ContentType="image/jpeg"/>
  <Override PartName="/ppt/media/image20.png" ContentType="image/png"/>
  <Override PartName="/ppt/media/image19.jpeg" ContentType="image/jpe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347A-A024-45AC-91B9-C4A71FA8C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FFE5-8D4F-4193-AB99-434A3FFDB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300F-C6F6-4E36-AF7C-32FC12AC5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0774-0D81-430D-B5DD-FEF54B34A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4D75-9E50-40D3-BB8C-E73102A4C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D5E2-CBE5-4703-91C5-4044411EE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83A4-3797-4C05-879F-450EEBCB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7E9C-18BB-4F39-B2AE-0B41F108A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05BB-A4A1-424F-BC46-57D043891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B863-7F6A-4939-A11F-CF7507326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BDFB-F75B-4155-9A63-DCD27EABE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E2D7-C261-4576-82EA-9E2A3115C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871-96F6-43BD-8CAF-0700D32880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A933-5D04-4B7E-8A29-E95EF28EF7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48769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Kindergarten to Grade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14600" y="251460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366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2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4038480" y="0"/>
            <a:ext cx="41911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3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3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342900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4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505320" y="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4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191120" y="0"/>
            <a:ext cx="46479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ore or less than one half?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Prove it!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oe struck out 7 out of 17 b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of the 11 apples were r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ill ate 5 out of 9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of the 15 seeds that were planted spr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733920" y="6396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apted from Marilyn B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3623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To the Curriculum!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a grade K –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fractional concepts and understandings in a place/strand where it was previously not anticip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different models link to the curricul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he-Ontario-Curriculum-Grades-1-8-Mathematics"/>
          <p:cNvPicPr/>
          <p:nvPr/>
        </p:nvPicPr>
        <p:blipFill>
          <a:blip r:embed="rId1"/>
          <a:stretch/>
        </p:blipFill>
        <p:spPr>
          <a:xfrm>
            <a:off x="5648400" y="0"/>
            <a:ext cx="3495600" cy="52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Consolidation – Your Choic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914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r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How can I use this knowledge to enrich students’ understanding and help them make conn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419720" y="914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on this quo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doesn’t matter whether the glass is half full or half empty.  There is room for more of the liquid tr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000680"/>
            <a:ext cx="1828800" cy="20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an understanding of the various representations for one ha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gnize and analyze various representations of one half and some of the common miscon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an understanding of the complexity of working with set models in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an awareness of the existence of fractional concepts in other areas of the  mathematics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75F-A7CA-48A8-90BB-1272ECC78F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25146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inds On! </a:t>
            </a:r>
            <a:br>
              <a:rPr sz="4400"/>
            </a:b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Gap Closing Diagnostic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representations of one half would students clearly under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ich representations of one half would likely be confusing for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isunderstandings may a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90360"/>
            <a:ext cx="5943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Action! </a:t>
            </a:r>
            <a:br>
              <a:rPr sz="4000"/>
            </a:b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Solve this problem in several ways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ED67-319F-4A7E-BEB2-965864260B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483F-C678-4B99-B168-EADAE746A0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763120" cy="2730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Looking at Student Work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mathematical understanding do we see in th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we see any of the misconceptions Marian mentioned in th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some of the misconceptions that were not part of the ple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strategies could be used to help students better understand the concept of f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Scoring Guide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8E36-C803-4973-BB80-2D29ED7902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4267080" y="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2209680" cy="443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1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16C9-E5C2-4DBF-9086-27F295DAEA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44193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443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1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352680" y="0"/>
            <a:ext cx="44960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2b5ca9"/>
                </a:solidFill>
                <a:latin typeface="Arial"/>
              </a:rPr>
              <a:t>Code 20</a:t>
            </a:r>
            <a:endParaRPr b="0" lang="en-US" sz="40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45720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Peel District School Board</cp:lastModifiedBy>
  <dcterms:modified xsi:type="dcterms:W3CDTF">2012-07-16T12:19:54Z</dcterms:modified>
  <cp:revision>23</cp:revision>
  <dc:subject/>
  <dc:title>&lt;Title&gt;</dc:title>
</cp:coreProperties>
</file>